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919-2BC7-4BD6-8E37-43EFEFCE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768-A8A8-4038-A7BE-ACC0092B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5CA-3728-428B-BDF7-4705DD0D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B84-8335-445B-8D8B-0B94FCD8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9DA7-5DB2-4C46-BCFE-3E7BB0C8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2C2C-7036-4B48-8BF9-B0A61861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3354-1DC0-4795-853A-5D6F6FF1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A3EA-10DA-41D4-A88F-365462B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917B-4857-4647-9326-C71615B6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0FD4-3BE9-4C60-B174-547CCCEA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20A1-5DD0-4B94-AF33-313D9C7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154-D5DD-40C0-9887-81B6191D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791F-3148-4689-A90C-FC6295D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38C7-98F1-4451-B67D-A776EB2D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2161-BC3F-4438-BFC4-4029081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FA4F-F39F-419D-81D4-E7EAD760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751A-A14B-4120-A7A8-EC3C8D41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531-523A-4F9E-9875-A121BFEC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1CB-40FD-4F00-B2B6-89ED35E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1E0-A460-4584-AADA-EC69ACA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9A0-B5C3-4A4C-B13F-AA14DA6E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A31-1FD1-4EAF-B472-5920423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618-10D1-4584-93FA-32E3F85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429-BD69-4435-81D8-00AD398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46FE-050B-40A6-998B-5BF25C63A6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AD01-6D7F-466E-BA12-14BD4FF94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Genome reannotation: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"/>
              </a:rPr>
              <a:t>Dealing with the atypical, the ambiguous, and the contrary</a:t>
            </a:r>
            <a:endParaRPr b="0" lang="en-US" sz="4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mments for validation flag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usual spli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intr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verlaps transpos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conventional translation star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ultiphase ex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icistron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annot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tegorized as problematic/provision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d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 only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gene fragment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s capture of the ORF without condoning the gene mod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transcrip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 transcrip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; distinguish between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relative to cDNA length (stops throughout; no long ORF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(previous case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458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Release 3.2 contributo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Kathy Campbel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ynn Crosb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verley Matthew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ndy Schroed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rian Bettencour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Yanmei Hu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yla Bayraktarogl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vel Hradeck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illian Millbur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ma Misr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hris Smi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leanor Whitfie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ili Zh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inglei Zho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Annotated, but…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transcript classifi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exclud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learly flagg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spect cDNA: possible unspliced intron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 confidence ratings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ata typ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58720"/>
            <a:ext cx="784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NA data (complete/partial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homology/protein domain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lagg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 system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Yes/no indication for each different level of supporting data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lexible and open-end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an be dense and nuanc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rs can easily set different combinations of criteria for bulk data se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DNA and EST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structure support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TRs suppor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full-length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partial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overlaps cDNA(s) or EST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upporting protein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omologous protei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gh scoring of similar leng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ss simil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ndication of taxonomic range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lete protein domain(s) identifi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cont.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(s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: [CV]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; possible gene frag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uncated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pseudogen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open -ende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perimental determination of 5’ e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orther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RFeome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croarray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 situ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ealing with the messy o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 provisional/problematic anno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inimize biases of current knowled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exclude from rigorous data s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 and categorize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ld into a transcript rating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vidence tallying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ottom li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notate generousl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riteria should not be too string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bel the ambiguous and atypic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fine a “problematic” categ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se a CV to describ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vise a confidence-rating system or an evidence tally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7360"/>
            <a:ext cx="83822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1T20:07:26Z</dcterms:created>
  <dc:creator>William M. Gelbart</dc:creator>
  <dc:description/>
  <dc:language>en-US</dc:language>
  <cp:lastModifiedBy>William M. Gelbart</cp:lastModifiedBy>
  <dcterms:modified xsi:type="dcterms:W3CDTF">1970-01-14T13:55:46Z</dcterms:modified>
  <cp:revision>13</cp:revision>
  <dc:subject/>
  <dc:title>Drosophila reannotation: Lessons learned</dc:title>
</cp:coreProperties>
</file>